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73C-2EC0-4A13-8383-466AB20D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76C-0CFA-428A-B1CE-24191432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ECB-3E25-4E2B-940A-B76C7611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112-8EA2-4923-AA22-F65FF614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43-C054-41A3-915A-BA34270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485-81F3-4D35-8921-40EA997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112-10B1-479B-B308-B771F5F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148-0D16-4A1D-9DDE-E1B7D34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87B-1A2E-4D29-B59F-841DEB9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8FD-0939-44D9-B27F-4671B0CE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8FF-073F-4C55-AB7C-7267B73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CCD-7429-4947-B8BF-4FC6DEB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226-0023-49EB-9865-FF2FDA22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7:49Z</dcterms:created>
  <dc:creator>USER</dc:creator>
  <dc:description/>
  <dc:language>en-US</dc:language>
  <cp:lastModifiedBy>USER</cp:lastModifiedBy>
  <dcterms:modified xsi:type="dcterms:W3CDTF">2002-11-01T03:57:57Z</dcterms:modified>
  <cp:revision>1</cp:revision>
  <dc:subject/>
  <dc:title>PowerPoint Presentation</dc:title>
</cp:coreProperties>
</file>